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4D51-B899-4658-B712-090A244E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00CB-159A-4FC9-8601-6D10188A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B73-A47C-44C9-A1E9-8919987AB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C16C-45C5-4D4B-80B8-2EB4E8DD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7D2-357B-4E5D-BB3F-941FD60E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8D1-4607-47A2-A9B5-7485229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B27B-2981-4159-80A6-CB31784D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C5A-59E6-4312-B88A-10244427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2F22-59B6-4EAA-8E5C-B8EA16C0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E6A-E010-46AE-9A5F-EF62DF8A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13DF-02D0-4CC8-9197-1BD9939F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BC0-6298-4AA2-AB4C-D08E8E5A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6C57-F87A-438C-8B44-B4E766A3B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D-MAIPU" descr=""/>
          <p:cNvPicPr/>
          <p:nvPr/>
        </p:nvPicPr>
        <p:blipFill>
          <a:blip r:embed="rId1"/>
          <a:srcRect l="26473" t="0" r="36557" b="0"/>
          <a:stretch/>
        </p:blipFill>
        <p:spPr>
          <a:xfrm>
            <a:off x="170028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37:35Z</dcterms:created>
  <dc:creator>METRO S.A.</dc:creator>
  <dc:description/>
  <dc:language>en-US</dc:language>
  <cp:lastModifiedBy>METRO S.A.</cp:lastModifiedBy>
  <dcterms:modified xsi:type="dcterms:W3CDTF">2006-08-25T19:22:05Z</dcterms:modified>
  <cp:revision>2</cp:revision>
  <dc:subject/>
  <dc:title>Presentación de PowerPoint</dc:title>
</cp:coreProperties>
</file>